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16.jpeg" ContentType="image/jpeg"/>
  <Override PartName="/ppt/media/image15.wmf" ContentType="image/x-wmf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7.jpeg" ContentType="image/jpeg"/>
  <Override PartName="/ppt/media/image5.wmf" ContentType="image/x-wmf"/>
  <Override PartName="/ppt/media/image6.jpeg" ContentType="image/jpeg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5F70-A07B-4D76-BE2E-5F8B9C9AB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C69B-9167-4F92-BF24-E988400C1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71A5-E6FA-4947-BFDE-5A4D8B3C9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28D2-DFDE-4C4D-943D-B36C40F5B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EDB08-D58E-4B7D-9A74-00B231381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59E3C-3E55-4712-8B3E-89EDF247D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DBE71-5E5C-47E7-9ECA-AF8A158FA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4919B-CB0C-449B-B697-F3409BCE9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99B9E-0D68-4F4A-B5DD-0D8CDC009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BDF13-BC58-4735-A4F6-4D687A994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6BEA5-EDC0-4D31-81B5-D8665E85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96A7-CC18-465E-A3C7-D39704D94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A924D-3DD5-4264-89D7-88DC81F8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487A7-AE00-4034-ADEF-2C1D1406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67D92-0B58-4776-B4A4-A944E02E4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5136E-1F25-47BD-8A29-356A99236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908BB-B94D-4AD6-AA87-D245F6DFA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555C7-70C1-4846-B726-EA7E95C62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403BA-395B-4E25-8956-0B8508B66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150EB-187B-4F01-9FAC-B656E3388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5067A-FBA6-4208-B66A-0809BC1DC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93B12-4249-4CC8-8261-86413581C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D1BF-CD78-4E44-8BEB-801360DA4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2A353-59A9-4518-A1C4-8587D189C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B9AFB-7B84-4201-91E8-A705AB7B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4CB8F-CE97-4EDD-91C3-A064C015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5C6CA-0B7B-4C15-A3CE-421721ED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C943D-6315-4B93-9F2D-38E762AF1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3E966-34B0-487A-AEF0-E2DD4453A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477D1-9B33-4AA2-BBCE-071EEE614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6ABF8-CD1E-46DB-AFA3-7F7E69D36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252CC-9114-40D8-A6EB-38009996A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8DCAA-5405-4AE0-B876-A2B83B841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9533-AE1D-469B-866D-F42B7F158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543F4-EB5D-4AEA-8364-659C29FB3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99F7E-BA52-4F6D-9136-BA7D9AB82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AA3F8-BBE4-4CAA-B8DB-22A928FA2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1A18E-C096-4EA0-BD45-B87943B1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6037D-1C1A-4972-A8CF-CA645480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F26DA-EE59-4B60-BF05-40643F74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67857-C507-40E8-A6D6-DE3D8DACA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45E23-946B-48F5-AFB9-09CCE870B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A7518-0677-4910-B140-CCC56BCC4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1283-E830-4379-BCA3-05B26A8A3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C5A6-671B-4D0A-B2B7-B91C85EB3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747B-5136-4B2B-BE7C-8E0C9DEE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1D7B-06D5-469F-B8C4-66889417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2FA5-73DC-44AF-9D21-766B62B1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181D1-1BC1-4740-A7C1-1F2FBEF78C94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2ADF-3712-4A3F-B707-F3C68C9877FC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948360" y="5083200"/>
            <a:ext cx="2195640" cy="1774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160640" cy="2340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ABD5C-C1D6-4967-AB43-EC083AE159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70A02-1A9C-4A56-B725-C7A568C3B0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m/imgres?imgurl=http://www.sompo-japan.co.jp/travel/images/trav03.gif&amp;imgrefurl=http://www.sompo-japan.co.jp/travel/trav005.html&amp;h=171&amp;w=200&amp;sz=6&amp;tbnid=o5zIk1UZvlIJ:&amp;tbnh=84&amp;tbnw=99&amp;hl=zh-CN&amp;start=44&amp;prev=/images%3Fq%3D%25E7%2596%25BE%25E7%2597%2585%26start%3D40%26svnum%3D10%26hl%3Dzh-CN%26lr%3D%26newwindow%3D1%26sa%3DN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.baidu.com/i?ct=503316480&amp;z=131720550&amp;tn=baiduimagedetail&amp;word=&#28508;&#27700;&amp;in=31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bigchina.net/ebcps/2/md/1376492.html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toufa.cn/special/14/2/2515035887.htm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who.int/en/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</a:rPr>
              <a:t>病理生理学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61720" y="4149360"/>
            <a:ext cx="7010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唐朝枢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2380680" y="2708280"/>
            <a:ext cx="437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pathophysiolog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0010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亚健康（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sub-health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184464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身心处于健康与疾病之间的健康低质量状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411280" y="2781360"/>
          <a:ext cx="4033800" cy="3332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11280" y="2781360"/>
                    <a:ext cx="4033800" cy="33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疾病（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disease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）的概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072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5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机体在一定病因作用下，自稳调节紊乱导致的异常生命活动过程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症状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(symptom)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指疾病所引起的患者主观感觉的异常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(sign)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通过各种检查方法在患病机体发现的客观存在的异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病理过程（</a:t>
            </a: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pathological process</a:t>
            </a: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0" lang="zh-CN" sz="3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66280" y="2060640"/>
            <a:ext cx="8001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多种疾病中出现的共同的成套的功能、代谢和结构变化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41280" y="515880"/>
            <a:ext cx="711360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疾病与病理过程的区别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4920" y="2226960"/>
            <a:ext cx="8280360" cy="34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一个疾病可包含几个病理过程，故病理过程是疾病的组成成分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一个病理过程可以由不同原因引起，而疾病由特定原因引起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ll dir="lu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26560" y="990720"/>
            <a:ext cx="7921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三节 病因学概论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病因学（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etiology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"/>
          <p:cNvSpPr/>
          <p:nvPr/>
        </p:nvSpPr>
        <p:spPr>
          <a:xfrm>
            <a:off x="468360" y="270828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研究疾病发生的原因和条件及其作用规律的科学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72360" y="4375080"/>
            <a:ext cx="19526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11280" y="44370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健康机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64000" y="4437000"/>
            <a:ext cx="12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病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24360" y="4437000"/>
            <a:ext cx="217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患病机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37880" y="3213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利条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9520" y="5661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利条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203640" y="4508640"/>
            <a:ext cx="2442960" cy="457200"/>
          </a:xfrm>
          <a:custGeom>
            <a:avLst/>
            <a:gdLst>
              <a:gd name="textAreaLeft" fmla="*/ 0 w 2442960"/>
              <a:gd name="textAreaRight" fmla="*/ 2443320 w 2442960"/>
              <a:gd name="textAreaTop" fmla="*/ 360 h 457200"/>
              <a:gd name="textAreaBottom" fmla="*/ 457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95640" y="5013360"/>
            <a:ext cx="228600" cy="609480"/>
          </a:xfrm>
          <a:prstGeom prst="upArrow">
            <a:avLst>
              <a:gd name="adj1" fmla="val 50000"/>
              <a:gd name="adj2" fmla="val 66654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95640" y="3860640"/>
            <a:ext cx="145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067280" y="52293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27640" y="55166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3860640"/>
            <a:ext cx="228600" cy="609840"/>
          </a:xfrm>
          <a:prstGeom prst="downArrow">
            <a:avLst>
              <a:gd name="adj1" fmla="val 50000"/>
              <a:gd name="adj2" fmla="val 66693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34200" y="3213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诱因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2960" y="920880"/>
            <a:ext cx="78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病因学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Etiolog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443840" y="1989000"/>
            <a:ext cx="354600" cy="520560"/>
          </a:xfrm>
          <a:prstGeom prst="rect">
            <a:avLst/>
          </a:prstGeom>
          <a:noFill/>
          <a:ln cap="sq"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研究疾病发生的原因和条件及其作用规律的科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疾病发生的原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病因 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disease cause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，是指引起某一疾病必不可少的、决定疾病特异性的致病因素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66640" y="1537920"/>
            <a:ext cx="42926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．物理性因素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暴力、极端的温度、极端的大气压、噪声、电流、紫外线、电离辐射等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92720" y="2492280"/>
            <a:ext cx="338472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66640" y="1537920"/>
            <a:ext cx="42926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．化学性因素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强酸、强碱、毒物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5651640" y="1844640"/>
            <a:ext cx="273204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1052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第一章   绪  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25520" y="2637000"/>
            <a:ext cx="668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introduction to pathophysiolog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161720" y="4149360"/>
            <a:ext cx="7010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唐朝枢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66280" y="1915920"/>
            <a:ext cx="3924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物性因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病原微生物和寄生虫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特点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有一定的入侵门户和定位；病原体和机体相互作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5364000" y="1989000"/>
            <a:ext cx="28069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Verdana"/>
              </a:rPr>
              <a:t>鸡瘟病毒对人无致病作用？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2050920" y="1996920"/>
            <a:ext cx="410544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11000" y="1537920"/>
            <a:ext cx="7173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营养性因素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机体必需物质的缺乏或过多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96000" y="4098960"/>
            <a:ext cx="265752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66640" y="2133360"/>
            <a:ext cx="4510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精神、心理和社会因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古罗马医生盖仑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Galen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在其著作中就叙述了关于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精神卫生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的问题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5076720" y="2637000"/>
            <a:ext cx="37432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生的内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66280" y="1898280"/>
            <a:ext cx="3924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遗传性因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基因突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染色体畸变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356000" y="2565360"/>
            <a:ext cx="375120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生的内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66280" y="1898280"/>
            <a:ext cx="8109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先天性因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损害正常胎儿发育的因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7077240" y="3645000"/>
            <a:ext cx="132696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生的内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37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．免疫性因素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超敏反应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hypersensitivity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）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自身免疫性病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autoimmune disease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免疫缺陷病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immunodeficiency disease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）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疾病发生的条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19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12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条件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(condition)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是指在疾病的病因作用于机体的前提下，能够促进或阻碍疾病发生发展的各种因素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1960200" y="4384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条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700360" y="3860640"/>
            <a:ext cx="576360" cy="1584360"/>
          </a:xfrm>
          <a:custGeom>
            <a:avLst/>
            <a:gdLst>
              <a:gd name="textAreaLeft" fmla="*/ 368280 w 576360"/>
              <a:gd name="textAreaRight" fmla="*/ 576720 w 57636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634200" y="35863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内在因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686400" y="5103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外在因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条件对疾病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①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抑制疾病发生发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②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促进疾病发生发展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"/>
          <p:cNvSpPr/>
          <p:nvPr/>
        </p:nvSpPr>
        <p:spPr>
          <a:xfrm>
            <a:off x="826920" y="3500280"/>
            <a:ext cx="7201080" cy="520560"/>
          </a:xfrm>
          <a:prstGeom prst="rect">
            <a:avLst/>
          </a:prstGeom>
          <a:noFill/>
          <a:ln cap="sq"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能够加强某一疾病原因的作用，从而促进疾病发生的因素，称之为诱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precipitating factor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四节 发病学概论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"/>
          <p:cNvSpPr/>
          <p:nvPr/>
        </p:nvSpPr>
        <p:spPr>
          <a:xfrm>
            <a:off x="755640" y="3736800"/>
            <a:ext cx="7416720" cy="520560"/>
          </a:xfrm>
          <a:prstGeom prst="rect">
            <a:avLst/>
          </a:prstGeom>
          <a:noFill/>
          <a:ln cap="sq"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发病学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athogenesi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是研究疾病发生、发展及转归的普遍规律和机制的科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4360" y="1484280"/>
            <a:ext cx="8207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一节　病理生理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内容及其学科性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989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一、疾病发生、发展的一般规律及机制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（一）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疾病发生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机体的屏障防御作用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外部屏障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内部屏障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白细胞、组织细胞、淋巴结、肝、肺、肾、脾、血脑屏障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(blood-brain barrier)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和胎盘屏障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(placenta barrier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（一）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疾病发生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致病因素的蔓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组织性蔓延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神经蔓延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体液蔓延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展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疾病时自稳调节的紊乱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自我调节机制破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展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疾病过程中的因果转化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原始病因使机体某一部分发生损害后，这种损害又可以作为发病学原因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Arial"/>
              </a:rPr>
              <a:t>（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Arial"/>
              </a:rPr>
              <a:t>pathogenetic cause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Arial"/>
              </a:rPr>
              <a:t>）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而引起另一些变化，后者又可作为新的发病学原因而引起新的变化。如此，原因和结果交替不已，使疾病过程不断发展。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3200400" y="609480"/>
            <a:ext cx="13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爆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657600" y="1143000"/>
            <a:ext cx="0" cy="304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895480" y="1523880"/>
            <a:ext cx="23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织受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733920" y="2057400"/>
            <a:ext cx="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>
            <a:hlinkClick r:id="rId1"/>
          </p:cNvPr>
          <p:cNvSpPr/>
          <p:nvPr/>
        </p:nvSpPr>
        <p:spPr>
          <a:xfrm>
            <a:off x="3200400" y="2514600"/>
            <a:ext cx="1227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出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57600" y="3048120"/>
            <a:ext cx="0" cy="3045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057400" y="3505320"/>
            <a:ext cx="38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效循环血量减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657600" y="4114800"/>
            <a:ext cx="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916360" y="4648320"/>
            <a:ext cx="19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血压下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657600" y="5181480"/>
            <a:ext cx="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666880" y="5791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回心血量减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58320" y="685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495680" y="1676520"/>
            <a:ext cx="178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imes New Roman"/>
              </a:rPr>
              <a:t>果</a:t>
            </a:r>
            <a:r>
              <a:rPr b="1" lang="zh-CN" sz="2400" spc="-1" strike="noStrike">
                <a:solidFill>
                  <a:srgbClr val="009999"/>
                </a:solidFill>
                <a:latin typeface="Times New Roman"/>
              </a:rPr>
              <a:t>1       </a:t>
            </a:r>
            <a:r>
              <a:rPr b="1" lang="zh-CN" sz="2400" spc="-1" strike="noStrike">
                <a:solidFill>
                  <a:srgbClr val="009999"/>
                </a:solidFill>
                <a:latin typeface="Times New Roman"/>
              </a:rPr>
              <a:t>因</a:t>
            </a:r>
            <a:r>
              <a:rPr b="1" lang="zh-CN" sz="2400" spc="-1" strike="noStrike">
                <a:solidFill>
                  <a:srgbClr val="0099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95680" y="2438280"/>
            <a:ext cx="17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果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2     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因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48320" y="3429000"/>
            <a:ext cx="18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果</a:t>
            </a: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3      </a:t>
            </a: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因</a:t>
            </a: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562720" y="401760"/>
            <a:ext cx="253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原始病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initial cause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1447920"/>
            <a:ext cx="685800" cy="4495680"/>
          </a:xfrm>
          <a:custGeom>
            <a:avLst/>
            <a:gdLst>
              <a:gd name="textAreaLeft" fmla="*/ 0 w 685800"/>
              <a:gd name="textAreaRight" fmla="*/ 247680 w 685800"/>
              <a:gd name="textAreaTop" fmla="*/ 117000 h 4495680"/>
              <a:gd name="textAreaBottom" fmla="*/ 4378680 h 449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57200" y="23623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主导环节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leading link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372720" y="2666880"/>
            <a:ext cx="273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发病学原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pathogenetic cause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展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疾病过程中的因果转化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因果转化的发展方向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恶性循环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vicious cycl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良性循环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benign cycl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展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8001000" cy="36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957240" indent="-490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疾病时的损伤和抗损伤反应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5724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-433440">
              <a:lnSpc>
                <a:spcPct val="7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  <a:ea typeface="楷体_GB2312"/>
              </a:rPr>
              <a:t>损伤和抗损伤反应间并无严格界限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5724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-43344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  <a:ea typeface="楷体_GB2312"/>
              </a:rPr>
              <a:t>矛盾的两个方面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0">
              <a:lnSpc>
                <a:spcPct val="30000"/>
              </a:lnSpc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-43344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  <a:ea typeface="楷体_GB2312"/>
              </a:rPr>
              <a:t>动态变化过程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0">
              <a:lnSpc>
                <a:spcPct val="40000"/>
              </a:lnSpc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-43344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代偿（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compensation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）和适应反应（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adaptive response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）是机体抗损伤反应的重要方面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821520" y="620640"/>
            <a:ext cx="7383960" cy="6082560"/>
            <a:chOff x="821520" y="620640"/>
            <a:chExt cx="7383960" cy="6082560"/>
          </a:xfrm>
        </p:grpSpPr>
        <p:sp>
          <p:nvSpPr>
            <p:cNvPr id="294" name=""/>
            <p:cNvSpPr/>
            <p:nvPr/>
          </p:nvSpPr>
          <p:spPr>
            <a:xfrm rot="6074400">
              <a:off x="7179840" y="3586320"/>
              <a:ext cx="1000080" cy="872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808000"/>
            </a:solidFill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821520" y="620640"/>
              <a:ext cx="7102080" cy="6082560"/>
              <a:chOff x="821520" y="620640"/>
              <a:chExt cx="7102080" cy="6082560"/>
            </a:xfrm>
          </p:grpSpPr>
          <p:sp>
            <p:nvSpPr>
              <p:cNvPr id="296" name=""/>
              <p:cNvSpPr/>
              <p:nvPr/>
            </p:nvSpPr>
            <p:spPr>
              <a:xfrm>
                <a:off x="7437960" y="3836880"/>
                <a:ext cx="48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异物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7" name=""/>
              <p:cNvGrpSpPr/>
              <p:nvPr/>
            </p:nvGrpSpPr>
            <p:grpSpPr>
              <a:xfrm>
                <a:off x="821520" y="620640"/>
                <a:ext cx="6822720" cy="6082560"/>
                <a:chOff x="821520" y="620640"/>
                <a:chExt cx="6822720" cy="608256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1778760" y="1246320"/>
                  <a:ext cx="5474520" cy="464796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ffcc66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924360" y="620640"/>
                  <a:ext cx="1264320" cy="59076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rot="2336400">
                  <a:off x="6224760" y="1333440"/>
                  <a:ext cx="1327320" cy="7621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rot="13183200">
                  <a:off x="2196720" y="5554440"/>
                  <a:ext cx="1485720" cy="76176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rot="14810400">
                  <a:off x="977040" y="4107600"/>
                  <a:ext cx="997200" cy="96696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rot="8521200">
                  <a:off x="5728680" y="5389200"/>
                  <a:ext cx="1261080" cy="7621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 rot="19479000">
                  <a:off x="1929240" y="1147680"/>
                  <a:ext cx="1031400" cy="7621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rot="16834800">
                  <a:off x="888840" y="2464560"/>
                  <a:ext cx="990720" cy="9601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3859200" y="1627200"/>
                  <a:ext cx="1400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单核吞噬细胞系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5847120" y="2541600"/>
                  <a:ext cx="942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物理性屏障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016320" y="3909960"/>
                  <a:ext cx="790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应激状态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4350600" y="5129280"/>
                  <a:ext cx="790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免疫反应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2835720" y="4599000"/>
                  <a:ext cx="48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炎症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2280600" y="3608280"/>
                  <a:ext cx="48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凝血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2248560" y="2465280"/>
                  <a:ext cx="1095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化学解毒作用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4342680" y="696960"/>
                  <a:ext cx="48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射线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6616800" y="147492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微生物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6060600" y="558972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应激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2570400" y="581832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致热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1141560" y="437040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致畸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983160" y="277020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致癌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201040" y="1322280"/>
                  <a:ext cx="48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创伤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20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921120" y="2625840"/>
                  <a:ext cx="1269360" cy="1973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三）疾病发生的基本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400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神经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体液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细胞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分子机制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研究对象及任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9640" y="3357720"/>
            <a:ext cx="255600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疾病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（患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病机体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2771640" y="3284640"/>
            <a:ext cx="216000" cy="1224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61240" y="3068640"/>
            <a:ext cx="236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病人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patien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07040" y="4149720"/>
            <a:ext cx="369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疾病模型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nimal mode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6920" y="4076640"/>
            <a:ext cx="22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机能代谢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11280" y="198900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研究对象为疾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55960" y="5373720"/>
            <a:ext cx="428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任务为揭示机制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mechanis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755640" y="6922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二、疾病转归的一般规律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68360" y="34290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疾病的转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916360" y="247032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康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059280" y="4437000"/>
            <a:ext cx="163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死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859280" y="1916280"/>
            <a:ext cx="314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完全康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788000" y="29242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完全康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627280" y="2852640"/>
            <a:ext cx="228600" cy="1828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284720" y="2276640"/>
            <a:ext cx="299880" cy="1066680"/>
          </a:xfrm>
          <a:custGeom>
            <a:avLst/>
            <a:gdLst>
              <a:gd name="textAreaLeft" fmla="*/ 191520 w 299880"/>
              <a:gd name="textAreaRight" fmla="*/ 300240 w 2998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一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恢复健康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4000" y="2349000"/>
            <a:ext cx="80010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康复 （痊愈 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不完全康复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755640" y="836640"/>
            <a:ext cx="5688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（二）死亡（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death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五节   死 亡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death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死亡的概念和原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死亡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Death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是指机体作为一个整体的功能的永久停止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"/>
          <p:cNvSpPr/>
          <p:nvPr/>
        </p:nvSpPr>
        <p:spPr>
          <a:xfrm>
            <a:off x="900000" y="4005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死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619280" y="3500280"/>
            <a:ext cx="358920" cy="1295640"/>
          </a:xfrm>
          <a:custGeom>
            <a:avLst/>
            <a:gdLst>
              <a:gd name="textAreaLeft" fmla="*/ 229320 w 358920"/>
              <a:gd name="textAreaRight" fmla="*/ 359280 w 35892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200" y="3284640"/>
            <a:ext cx="22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生理性死亡（老死亡，衰老死亡）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79640" y="47242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病理性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死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276720" y="4365720"/>
            <a:ext cx="360360" cy="1224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708360" y="422100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意外所引起急性死亡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708360" y="4797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重要器官不可恢复性损伤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708360" y="5373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慢性消耗性疾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传统的死亡概念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9280" y="2060640"/>
            <a:ext cx="80010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濒死期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临床死亡期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生物学死亡期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脑死亡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10920" y="2133720"/>
            <a:ext cx="8001000" cy="30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脑死亡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brain death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是指包括脑干在内的全脑功能丧失的不可逆转的状态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多数学者以脑干死亡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brain stem death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确定为脑死亡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脑死亡的判断标准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5040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持续深昏迷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呼吸停止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无自主运动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脑干反射消失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大脑电沉默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(electrocerebral silence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其他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5219640" y="2781360"/>
            <a:ext cx="392436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、及时判断脑死亡的意义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66280" y="196992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准确地判断脑死亡利于判断复苏的预后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死体材料的利用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确定终止复苏抢救的界线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病理生理学的教学内容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18208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疾病概论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Introduction to disease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病理过程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pathological process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系统器官病理生理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systemic pathophysiology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                           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、病理生理学的学科性质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8001000" cy="32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综合性学科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桥梁学科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实践性较强的学科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1239840" y="3433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四、病理生理学的研究方法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动物实验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animal experiment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细胞生物学实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分子生物学实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临床研究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clinical observation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不损害病人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二节 健康和疾病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健康（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health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）的概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2421000"/>
            <a:ext cx="8675640" cy="27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健康不仅没有疾病和病痛，而且在躯体上、心理上和社会上处于完好状态。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身心健康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WHO log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3280" y="5373720"/>
            <a:ext cx="401184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7T15:08:06Z</dcterms:created>
  <dc:creator>aa</dc:creator>
  <dc:description/>
  <dc:language>en-US</dc:language>
  <cp:lastModifiedBy>hzg</cp:lastModifiedBy>
  <dcterms:modified xsi:type="dcterms:W3CDTF">2014-04-22T02:29:22Z</dcterms:modified>
  <cp:revision>210</cp:revision>
  <dc:subject/>
  <dc:title>病理生理学                  (pathophysiology) </dc:title>
</cp:coreProperties>
</file>